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726-9193-487A-A6C3-24896B36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504-9E77-4706-BE9F-47C31215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7C0-5D7B-40E1-B782-D8AEFDAD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CFC-74BE-4B11-A7DB-65E442A0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A54-1F8E-40CE-A34C-8E297A95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0C8-7D22-46D1-AB90-6BB27AF2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751-54EA-4C2A-8BA5-D6E22F35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3EF-E9B1-41A8-AE47-AA7529D1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1DD-CED3-4C7C-95B0-1BA6F9FE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9896-FCC6-4C89-8E2C-F7D8F54D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F3D-C683-4F08-97BF-B68B7E41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7DD-70F7-40A4-9291-BD55176A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374D-3969-4932-9216-820737F84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51814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9:06:53Z</dcterms:created>
  <dc:creator>St. Jude School</dc:creator>
  <dc:description/>
  <dc:language>en-US</dc:language>
  <cp:lastModifiedBy>St. Jude School</cp:lastModifiedBy>
  <dcterms:modified xsi:type="dcterms:W3CDTF">2010-01-11T19:10:18Z</dcterms:modified>
  <cp:revision>1</cp:revision>
  <dc:subject/>
  <dc:title>Slide 1</dc:title>
</cp:coreProperties>
</file>